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41492-A797-4EF9-9F4D-8F5A0CD10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6401A-F3BA-4D1D-89BE-00BE4D92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4B561-8961-445E-98B4-3B6E5C0EC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6CF9C-4E78-4F32-84CC-A3EA45B01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61DD3-B6D2-4993-8575-7A8FA071D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9095D-3E2A-4011-9292-24F77E283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B985E-4F9B-458E-94CE-85B23D5B2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A5C58-DB6C-4254-8419-E85A51B9F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6A74E-97B0-4F6B-97B1-E7AACBF95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79DD4-0935-411E-B3B8-0C0B1AE87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62003-6A37-4C5B-AE60-DB27AAB9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6BDFC-1067-462B-BABB-5564241E9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D233B-4CD5-4B7A-9760-F396BDD82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B9AD0-C618-48F9-8231-F87AC79E8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02537-3040-4F38-B3BF-A3670FEC5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5BAD8-6D85-4531-A857-E4184C330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DEBA4-58B6-4657-AAE1-88E166B35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63622-02F8-44BD-8D29-FC656031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0D81-F9D0-48E6-B2D1-0E5883754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ECC1-480E-4DC2-A262-9675D41C6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C8A7-4112-41FE-821C-05379A29A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62DCC-8754-4E52-A846-B046ADBA5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A79E-C26E-45AE-9650-E5634870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DE40-6CB8-4077-B047-BDFD95044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72D8-B77C-4F4B-8602-9DD56A3C050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614E-174A-46F8-A357-C8E93A147F3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ver My Dead Bod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Kate Klise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nre</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 fiction book</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x"/>
              </a:rPr>
              <a:t>Summary</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This is the sequel to Dying to meet you. In this one there is a twist! There trying to sell a book but a man named Dick Tater who takes Ignatius to the asylum and Seymour to the orphanage. When the try to get back it gets difficult . Olive is trying to help by trying to find her old manuscripts that never got published. BUT WHEN Mr. Tater Tot (this is olives  nickname for him) try’s to exhume Olives body thing go really baldy.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commendation</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highly recommend this book to all teachers and any one who has read th first book</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cale </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a scale from 1 to 10 I give this book a 10 its funny and exit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23:57:18Z</dcterms:created>
  <dc:creator>Garry Sawka</dc:creator>
  <dc:description/>
  <dc:language>en-US</dc:language>
  <cp:lastModifiedBy>Garry Sawka</cp:lastModifiedBy>
  <dcterms:modified xsi:type="dcterms:W3CDTF">2011-11-30T00:11:10Z</dcterms:modified>
  <cp:revision>2</cp:revision>
  <dc:subject/>
  <dc:title>Over My Dead Body</dc:title>
</cp:coreProperties>
</file>